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085-DF6A-40D8-B8A4-C87F1CE5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C55-17DE-4D84-8CF5-3025EFE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0B6-612F-4C73-B0B2-104F7ED6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BC4-23C2-415B-BD29-FDF97BB4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B8AC-9D64-4A34-B6C3-2099E9D7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2AA9-04A2-4D53-B4F7-A9BF219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539E-44C8-4E9C-B709-0BCECD1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B821-839E-48EE-8FDA-B630CC9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64B-0609-4CE4-81FA-7C7E0F7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4B2A-1C82-48D5-96A0-4769AE9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F05-F61F-4258-B203-1B1F490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E63-6460-45C4-97B6-B9D9931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9FB4-77E8-416C-A028-B7268B8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1E02-8A5E-4591-A80C-A0A1277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77C9-FDC3-4AD0-B8B6-73A0E68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F925-D586-4A92-BEE9-FF44B2BF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5A2-B4EA-4766-AF08-B88C4C42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44527-16B8-4E5A-95A4-CFC5C7A8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11D4F-21E2-4B8C-9B78-380CF25D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F4A6E-D6DA-4B37-9790-3D043EA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B0849-05D5-43CF-AF5D-26D705D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3BE1E-B3A8-442F-96AC-2AEB6634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ED5-C9DC-4AF8-99D6-2E32115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8E290-42CB-4A40-AF05-10B7E0C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5AB27-044B-4200-91CE-F584285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BEDD0-29CD-4CEA-83DF-18B824D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5A03B-0584-40CF-98E8-237040A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E2227-D241-454B-981E-379E40A1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0149C-1A16-415F-8A5D-66944CC3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96365-911A-4D65-A8A7-20467B9F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771F-A3F3-49B5-A5D2-05D8F89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D2C3-EFC6-485B-8D51-5D003BA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0397-DBC6-4DAD-8B8E-AE2E110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E38-216E-4FCE-9DF8-258E75A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241A-DA58-444F-91E6-7AC4D88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B912-26A5-47AC-AC7D-6660980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D2B7-F562-49AB-967C-46B449C0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83D3-6CEA-47E7-8C0D-369EBED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481A-118A-4610-8E62-1A66042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9CD4-B93F-4FC5-8442-F107EFB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A36A-422D-4D48-B2C4-BF04940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C484-7CB5-472A-B759-7890E563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D79B-D0E5-4627-AA76-6D29AF2B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D39-B1A2-4F8C-B3C6-37BA807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186-897B-4B46-9ACC-DB22ABB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6C0-DD01-461B-95A3-55F4FB0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AD2-7510-4128-9DF9-2DC22B3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2BB-425C-4A7B-9FEC-172F957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C41-5B03-48C4-9FE0-4D8F7657986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b2d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5765-7F01-4084-9C84-D37E158CED4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923-1F2F-477F-A7BF-957585AD506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D78-FB8F-48AB-B4B0-EC2890BB8EF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8868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Подготовка  к написанию сочинения- рассуждения в формате части С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00480" y="4714560"/>
            <a:ext cx="2786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464"/>
                </a:solidFill>
                <a:latin typeface="Georgia"/>
              </a:rPr>
              <a:t>Материалы подготовлены Шалыгановой  Л . А., учителем русского языка и литературы МОУ «Гимназия № 4» г. Саратов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рать  высказывания  известных  писателей , философов , публицистов для использования  в сочинении  по тексту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о природе, о любви к  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о культуре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о милосердии , сострадан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  о добро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)   о  писательском  труд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)   о  любви  к Родине  (к  родин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 еще  можно начать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…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параллельного   прим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устим, перед  вами текст  о жизни  пожилой  женщины   Катерины  Ивановны, которая страдает от одиночества, страшно доживает   последние  годы  жиз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 нач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рько  видеть вокруг стариков, брошенных на произвол  судьбы  своей  страной, близкими, детьми. В моем  подъезде  живет  старушка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-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 вопрос, требующий  решения или  обсужд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тика -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это все  вопросы, которые затрагиваются  в  тексте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–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то то, о чем  говорится  в  текс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!!!  В  тексте  может  быть несколько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статочно  сформулировать  одну 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это  может  быть даже  побочная  проблем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о  потом  комментировать текст , определять  позицию  автора, свою точку  зрения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именно  по  сформулированной  пробл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сформулировать проблему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процитирова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Автор  прямо заявляет  о  проблеме «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В  тексте говорится  о  «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б) пересказа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в) указать № предло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роблема четко обозначена  в предложении №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сформулировать проблему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 сформулировать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проблема  (чег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в виде  вопроса (конкретно по содержанию  текста)- в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ом  случае  авторская  позиция должна стать ответом на этот вопро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!!!  </a:t>
            </a:r>
            <a:r>
              <a:rPr b="0" lang="ru-RU" sz="2800" spc="-1" strike="noStrike" u="sng">
                <a:solidFill>
                  <a:srgbClr val="0d0d0d"/>
                </a:solidFill>
                <a:uFillTx/>
                <a:latin typeface="Georgia"/>
              </a:rPr>
              <a:t>Можно  сформулировать  много проблем, но засчитывается только од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 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ить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,выдвинуть,  рассмотреть, коснуться , обсудить, уделить ей внимание , над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ожно думать , размышлять,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озникает , встает, представляет интерес, ждет  решени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ложная, важная , серьезная , неразрешимая , глубокая , актуальная,   новая , нравственная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мментари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это рассуждение  о пробл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Комментарий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объяснение того, как проблема  раскрывается   в  этом тек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ужно  показать , насколько  хорошо вы  поняли  текс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бязательно  опираемся   на  предложенный текст !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мните 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не  должно быть просто переск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комментируется  только сформулированная проблем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следует  избегать чрезмерного цитиров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 Если  используете цитату, она должна быть прокомментирован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Что проверяют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1. Умение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авильно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понимать прочитанный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екст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) формулирова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блем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комментировать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прочитанно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)выявля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авторскую позицию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2.Умение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вести диалог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широком смысле слова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)умение сформулирова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вою позицию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доказать ее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 учетом позиции другого челове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лема может быть свободно прокомментирована с  опорой на  текст. В этом случае ученик  следует  за автором в раскрытии  проблемы, старается  проследить за ходом  авторской  мысли, объяснить  содержание  текста, то  есть  показать, как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  отражается  в  тек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Цитирование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стно, но не более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ов  в  одном  предлож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чше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 2-3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говорит  о том  впечатлении , какое  произвела  на него «еле  уловимая  кротость» собеседниц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 мысленно рисует «березовый перелесок, за ним сосны, песчаный берег…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написать ,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кт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ще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обращалс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к  этой проблеме, насколько  она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актуальн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вечная или злободнев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 указать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тип пробл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нравственн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психолог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эколог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морально-эт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ская  позиция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это ответ на  вопрос, который ставит  авто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d0d0d"/>
                </a:solidFill>
                <a:uFillTx/>
                <a:latin typeface="Georgia"/>
              </a:rPr>
              <a:t>Она  может выражаться  по-разному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а) 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публицистический  текст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от  первого лица (в  этом случае нужно говорить о  позиции  автора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б) 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художественный текст  или  публицистический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(повествование), написанный  от  третьего  лица (есть позиция автора  и  есть позиция  героя –</a:t>
            </a:r>
            <a:r>
              <a:rPr b="1" i="1" lang="ru-RU" sz="2600" spc="-1" strike="noStrike">
                <a:solidFill>
                  <a:srgbClr val="0d0d0d"/>
                </a:solidFill>
                <a:latin typeface="Georgia"/>
              </a:rPr>
              <a:t> нельзя  путать!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художественный текст  от первого лица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(лучше говорить о  позиции рассказчика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Публицистический от первого лиц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Художественный  или  публицистический от  третьего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 автора  и позиция геро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Художественный  от  первого лица-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 рассказч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избежать тавтологии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- </a:t>
            </a:r>
            <a:r>
              <a:rPr b="0" lang="ru-RU" sz="2800" spc="-1" strike="noStrike">
                <a:solidFill>
                  <a:srgbClr val="1c1911"/>
                </a:solidFill>
                <a:latin typeface="Georgia"/>
              </a:rPr>
              <a:t>он , писатель, публицист , мастер сло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911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Писать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размышлять, задумываться , сообщать , рассуждать , пытаться понять , пытаться постичь ,повествовать, заявлять , указывать , говорить , обращать внимание , анализировать, подчеркивать , рассматрива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е мож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) сформули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) пересказать  своими  слов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) указать №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огда  у  автора  может  быть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двоякое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нош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С одной  стороны ,  автор…   А  с другой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Иногда  авторская  позиция  проявляется в 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поступке  геро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Иногда  выражается  через 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средства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выразительности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, и  тогда  о них  следует  говорить в комментар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Собственная  пози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выражение  личного взгляда на  выявленную  в  тексте  пробле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бственную  позицию  следует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казат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(выдвинуть  свой  тезис  и  подкрепить  2-3 аргументам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Требования к содержанию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- от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150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до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300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сперты считают приемлемым объемо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    от  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17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до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 280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Не нужно писать более 300 слов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c6b4d"/>
                </a:solidFill>
                <a:latin typeface="Georgia"/>
              </a:rPr>
              <a:t>Я  согласен  с  автором  в  том , 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9240c"/>
                </a:solidFill>
                <a:latin typeface="Georgia"/>
              </a:rPr>
              <a:t>С моей  точки  зрения  ,  эта  проблема  весьма  актуальна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рудно  не  согласиться  с  автором  в  том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e3611"/>
                </a:solidFill>
                <a:latin typeface="Georgia"/>
              </a:rPr>
              <a:t>Нельзя  не  согласиться  с автором  текста  в  том, 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4a3d"/>
                </a:solidFill>
                <a:latin typeface="Georgia"/>
              </a:rPr>
              <a:t>Я  полностью  разделяю  позицию  автора  по  отношению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днако  не совсем  точным  является , на  мой  взгляд , оценка  автором  (чего?)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4a3d"/>
                </a:solidFill>
                <a:latin typeface="Georgia"/>
              </a:rPr>
              <a:t>Мне  кажется,  что  в этом  автор  не  совсем  прав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Я  думаю,  автор  не  прав , утвержда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Я  думаю , что  с мнением  автора  можно  поспори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  целом   я  разделяю  точку  зрения  автора , однако  не  могу  согласиться  с  тем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езис  +  аргумен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ргументы   должны  быть  связаны  с тезис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ргумент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а) логические  рассуж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б)пример  из жизн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в) литературный (из  произведения  или  из биографии  писателя , поэта) (+  1 бал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г)предполагаемый  приме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ргументы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Не являются  литературными  аргумент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фольклорные  примеры (сказки , пословицы, поговорки , былины  и  т. д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песн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пример  из  литературы, публицистики  (без  указания  выходных  данных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Этические  ошибки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ические   ошибки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Georgia"/>
              </a:rPr>
              <a:t>высказывания,  которые  идут  вразрез  с  общечеловеческими  нормам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Georgia"/>
              </a:rPr>
              <a:t>Что  является  этической  ошибкой?</a:t>
            </a:r>
            <a:endParaRPr b="0" lang="en-US" sz="36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потребление  грубых , вульгарных  сл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пустимо  некорректное  отношение  к  авт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– маньяк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о  глуп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Нормальный  человек  так  сказать не может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Georgia"/>
              </a:rPr>
              <a:t>3. Слишком  категоричное  суж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Всякая  болезнь – вина  самого 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омните!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бзацное  член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Нельзя  допускать  фактических  ошиб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ледите  за  правильным  словоупотреблени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Тщательно  работайте  с  черновиком, шлифуйте  каждое  предложение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елайте  речь выразительной, богатой, интересн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имерный план сочинен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 В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 Отражение проблемы в текст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формулировка проблем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комментар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авторская позиц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иция уче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согласие или несогласие с автор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собственная позиция (тезис + 2 аргумент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   Вывод = заключ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Упрощенный план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улировка   проблем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ментарий   по   текст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иция  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бственная   позиц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Georgia"/>
              </a:rPr>
              <a:t>Чем отличается от обычного сочинения?</a:t>
            </a:r>
            <a:endParaRPr b="0" lang="en-US" sz="36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   сами   формулируете  пробле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Вступление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-4 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ступление + заключение =1/4  работ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  чего начать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иторический  вопро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рическое   от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ывное  предлож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но – ответная  форма изло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итата  (из этого текста   или   друг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иш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ждому  из  нас  приходилось  встречатьс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ногие  из нас  знают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Если начинаете  с цитаты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Из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нног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текста   приводите  дословно, точ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ругог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сточник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точ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в  виде  косвенной  реч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ев  Толстой  считал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ще в начале двадцатого века Чехов говорил 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38:49Z</dcterms:created>
  <dc:creator>Герман</dc:creator>
  <dc:description/>
  <dc:language>en-US</dc:language>
  <cp:lastModifiedBy>Герман</cp:lastModifiedBy>
  <dcterms:modified xsi:type="dcterms:W3CDTF">2009-11-30T16:20:01Z</dcterms:modified>
  <cp:revision>64</cp:revision>
  <dc:subject/>
  <dc:title>Подготовка  к написанию сочинения- рассуждения в формате части С</dc:title>
</cp:coreProperties>
</file>